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6870-9F21-4C87-9DD3-FE60E5C74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E51E-C69A-4ED4-A2B0-75B8BAC42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9E36-03A0-4545-809A-AAFA6CDDD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storyteller has his/her own pace. The story itself may dictate the pac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paced can suggest urgency, action, exasperation, excit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el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-paced suggest contemplation, romanticism, relaxation, or simple pleas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e might change – e.g., race to the hospital, birth of child, the miracle of i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DDFB-EF17-4F09-9A5C-D9D970CA9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D58D-8CD8-45CE-88E5-5D2122E82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6A47-9807-433D-B829-67EA8C367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8F73-18AF-4CB4-A54F-5400EE5D7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DFE9-735B-4CA6-BDA5-2408A165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7786-9CB0-4DB2-A802-B6CD7FF30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C7E2-3336-4FD8-A746-4501F5CB4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AE8B-7FDB-4C62-8CC8-72D66215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BC4A-7537-4DB0-8FCF-5E29E623A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455F-CF39-479B-9588-68E27BD93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definitions of digital storytelling, but in general, all of them revolve around the combining the long-standing art of telling stories with any variety of multimedia tools including graphics, audio, video, and Web publis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1E7D-417D-4E21-8916-27E8AF9EA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5A9D-1BAD-4BA0-91FD-1756BE941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242A-001D-4D58-9931-F9A58D960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Inspiration and brainst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-personal, multimedia personal narr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ic in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r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vation/conn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de to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2297-5871-4EDC-A2B9-63072B26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 Youth Voices Coast to Coast b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AD19-5C28-4F2B-A72E-2A7C93491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920F-F02C-46C8-A973-508856528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hift for many of us and many of our students – those of us who have been coached to distance ourselves and keep to de-emotionalized perspect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ard though to cast aside years of non-personal writing experiences and embrace creating something of a personal n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 story that deals with the fundamental emotional paradignms – of death and our sense of loss, of love and loneliness, of confidence and vulnerability, of acceptance and rejection – will increase the likelihood that you’re going to hold an audience’s att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514E-3CDA-4D96-ACBE-EBBA42A0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poken work or written narrative, we’re operating at a high rate of closure as we are filling in all the pictures suggested by a text or words from images and memories in our brains…Example (Once upon a midnight drear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igital storytelling the images generally exist prior to a script, as in a family alb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re’s no right way: script vs. images first. Just don’t linger too long with either. The trick is to let the reader fill in some of the missing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Ken Burns effect.  How long do you want to look at a person talking? Better to take a quick glance; then go to images that fill in enhance the person’s story. Use Mary Tsukamoto 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06B-3567-49F5-81E4-F0A1F7E5D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BE5-D555-42FA-9616-02A7D0122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917D-FDCA-4CE1-B4C5-C934F640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2A0-AE1F-450B-9A49-5B45CE2A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F1E-4E04-456D-AA00-02382F30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1C25-6EF7-4ADD-A274-51A2A52D7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9CE69-7D91-4776-9B4D-9B6CC88F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7614-340B-4933-BBCF-A6D27183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8F23-6EA6-4722-886F-38C0F8F3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C3C0-0524-4BDD-B0D5-0C566D97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E590-E840-41D9-8207-C9F2254C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3DEB-C9F8-4913-BB38-0AEF8767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9678-91E1-4EC2-803A-DE715E40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56E2-C25A-4085-9707-AAF2AC10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9D66-483D-4C38-A070-F5CA5EFE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0A63-53D6-4AF7-A85C-AB3CC7FD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3726-1450-43A5-A69A-A2BD1009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27E9-D9A9-4AB3-90B3-98E62AA5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BA6-DFA3-45FE-AFC7-207E4439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03D-E8B9-453A-AAF0-50392262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39F-CCDD-4DEE-A9E8-AE85BD8B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94F1-5BC0-4F85-8A46-97EF8039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D5B-28F1-49F5-B92B-F47C7AE2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771-17A7-41E4-88FC-48FB70D4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A5F-2839-4CE8-B823-9FE0AE06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24D1-70E9-4B27-880A-AE544DAEA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0B7-6093-4D96-B2ED-A108B4AE6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ell Me A Digital Story!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14400" y="2971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tory with a twist!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"/>
          <p:cNvSpPr/>
          <p:nvPr/>
        </p:nvSpPr>
        <p:spPr>
          <a:xfrm flipH="1" rot="20363400">
            <a:off x="880200" y="2282760"/>
            <a:ext cx="30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column research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"/>
          <p:cNvSpPr/>
          <p:nvPr/>
        </p:nvSpPr>
        <p:spPr>
          <a:xfrm>
            <a:off x="4419720" y="18288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yboard and sequenc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2"/>
          <p:cNvSpPr/>
          <p:nvPr/>
        </p:nvSpPr>
        <p:spPr>
          <a:xfrm rot="20269800">
            <a:off x="4834440" y="5202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ript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3"/>
          <p:cNvSpPr/>
          <p:nvPr/>
        </p:nvSpPr>
        <p:spPr>
          <a:xfrm rot="20045400">
            <a:off x="5195880" y="29318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4"/>
          <p:cNvSpPr/>
          <p:nvPr/>
        </p:nvSpPr>
        <p:spPr>
          <a:xfrm rot="1329600">
            <a:off x="3200040" y="3123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r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25909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6"/>
          <p:cNvSpPr/>
          <p:nvPr/>
        </p:nvSpPr>
        <p:spPr>
          <a:xfrm rot="1863600">
            <a:off x="973080" y="4617720"/>
            <a:ext cx="26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hoto Story 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7"/>
          <p:cNvSpPr/>
          <p:nvPr/>
        </p:nvSpPr>
        <p:spPr>
          <a:xfrm>
            <a:off x="4952880" y="41911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ivity and hard wor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6858000" y="62485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entury Schoolbook"/>
              </a:rPr>
              <a:t>click here to go to end of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1"/>
          <p:cNvSpPr/>
          <p:nvPr/>
        </p:nvSpPr>
        <p:spPr>
          <a:xfrm>
            <a:off x="457200" y="15228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entury Schoolbook"/>
              </a:rPr>
              <a:t>click on words for a visual of 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"/>
          <p:cNvPicPr/>
          <p:nvPr/>
        </p:nvPicPr>
        <p:blipFill>
          <a:blip r:embed="rId1"/>
          <a:srcRect l="2894" t="7784" r="19330" b="8747"/>
          <a:stretch/>
        </p:blipFill>
        <p:spPr>
          <a:xfrm>
            <a:off x="1295280" y="762120"/>
            <a:ext cx="64008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19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21" name="TextBox 6"/>
          <p:cNvSpPr/>
          <p:nvPr/>
        </p:nvSpPr>
        <p:spPr>
          <a:xfrm>
            <a:off x="2971800" y="5791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09960" cy="487692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24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45fd8b38-86e5-41e5-a3ae-d74fb6f71811"/>
          <p:cNvPicPr/>
          <p:nvPr/>
        </p:nvPicPr>
        <p:blipFill>
          <a:blip r:embed="rId1"/>
          <a:stretch/>
        </p:blipFill>
        <p:spPr>
          <a:xfrm>
            <a:off x="2209680" y="990720"/>
            <a:ext cx="48006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28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0" name="TextBox 5"/>
          <p:cNvSpPr/>
          <p:nvPr/>
        </p:nvSpPr>
        <p:spPr>
          <a:xfrm>
            <a:off x="35053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r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422424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33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2"/>
          <p:cNvGraphicFramePr/>
          <p:nvPr/>
        </p:nvGraphicFramePr>
        <p:xfrm>
          <a:off x="1981080" y="1143000"/>
          <a:ext cx="5257800" cy="44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143000"/>
                    <a:ext cx="5257800" cy="44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38" name="Picture 4" descr="toolbox"/>
            <p:cNvPicPr/>
            <p:nvPr/>
          </p:nvPicPr>
          <p:blipFill>
            <a:blip r:embed="rId3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0" name="TextBox 5"/>
          <p:cNvSpPr/>
          <p:nvPr/>
        </p:nvSpPr>
        <p:spPr>
          <a:xfrm>
            <a:off x="3200400" y="5715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o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newmandala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75596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5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43" name="Picture 6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WordArt 7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45" name="TextBox 5"/>
          <p:cNvSpPr/>
          <p:nvPr/>
        </p:nvSpPr>
        <p:spPr>
          <a:xfrm>
            <a:off x="312408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ivit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4876920" cy="3666960"/>
          </a:xfrm>
          <a:prstGeom prst="rect">
            <a:avLst/>
          </a:prstGeom>
          <a:ln cap="sq" w="168120">
            <a:solidFill>
              <a:srgbClr val="ffffff"/>
            </a:solidFill>
            <a:miter/>
          </a:ln>
        </p:spPr>
      </p:pic>
      <p:grpSp>
        <p:nvGrpSpPr>
          <p:cNvPr id="147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48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0" name="TextBox 5"/>
          <p:cNvSpPr/>
          <p:nvPr/>
        </p:nvSpPr>
        <p:spPr>
          <a:xfrm>
            <a:off x="274320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1600200" y="1066680"/>
            <a:ext cx="6095880" cy="471816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3"/>
          <p:cNvGrpSpPr/>
          <p:nvPr/>
        </p:nvGrpSpPr>
        <p:grpSpPr>
          <a:xfrm>
            <a:off x="6781680" y="6172200"/>
            <a:ext cx="838440" cy="685800"/>
            <a:chOff x="6781680" y="6172200"/>
            <a:chExt cx="838440" cy="685800"/>
          </a:xfrm>
        </p:grpSpPr>
        <p:pic>
          <p:nvPicPr>
            <p:cNvPr id="153" name="Picture 4" descr="toolbox"/>
            <p:cNvPicPr/>
            <p:nvPr/>
          </p:nvPicPr>
          <p:blipFill>
            <a:blip r:embed="rId2"/>
            <a:stretch/>
          </p:blipFill>
          <p:spPr>
            <a:xfrm>
              <a:off x="7010280" y="6248520"/>
              <a:ext cx="45900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WordArt 5"/>
            <p:cNvSpPr txBox="1"/>
            <p:nvPr/>
          </p:nvSpPr>
          <p:spPr>
            <a:xfrm>
              <a:off x="6781680" y="6172200"/>
              <a:ext cx="838440" cy="685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5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back to main page tool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55" name="TextBox 5"/>
          <p:cNvSpPr/>
          <p:nvPr/>
        </p:nvSpPr>
        <p:spPr>
          <a:xfrm>
            <a:off x="2971800" y="5867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ybo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echnology is always secondary to the storytelling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at will I learn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is digital storytelling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digital storytelling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s of digital storytel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ools to create your digital s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1371600"/>
            <a:ext cx="701064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ll me a fact and I’ll learn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ll me a truth and I’ll believe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ell me a story and I’ll remember it forev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792468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Digital Storytell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et’s Watch!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38080" y="23623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MNOTMOM - A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storycenter.org/momquicktim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ersonal t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066320"/>
            <a:ext cx="6019920" cy="266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at did all the stories have in common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hy Digital Storytelling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hort, personal multimedia tale told from the heart“ (Daniel Meadow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m of digital expression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ories can be created by people everywhere, on any subject, and shared electronically all over the wor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Your Projec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oose a person, place or event that you want to research and then tell its s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ear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rite the stor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wnload the graphic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it all together using storytelling softwa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lls someone or something or some place’s s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ld from the 1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person perspective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T a report; this is their STO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ength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ou only have 1 written page and 3 total minutes to tell their stor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inct and to the poi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ictures display a tone, feeling, and communicate beyond what you are say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762120" y="1905120"/>
            <a:ext cx="7924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ust Bow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http://www.coe.uh.edu/digital-storytelling/dustbowl.ht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Personal T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http://www.digitales.us/story_details.php?story_id=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al Mine Explo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http://www.digitales.us/story_details.php?story_id=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gan</cp:lastModifiedBy>
  <dcterms:modified xsi:type="dcterms:W3CDTF">2008-08-01T19:06:46Z</dcterms:modified>
  <cp:revision>13</cp:revision>
  <dc:subject/>
  <dc:title>Tell Me A Digital Story!</dc:title>
</cp:coreProperties>
</file>